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六章：类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5880"/>
            <a:ext cx="11226600" cy="417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初始化方法名是以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i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头（规范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我们也可以自定义类的初始化方法，以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nitWith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头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最好将初始化方法的返回值设置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71680" y="2946240"/>
            <a:ext cx="11861640" cy="4851720"/>
          </a:xfrm>
          <a:prstGeom prst="roundRect">
            <a:avLst>
              <a:gd name="adj" fmla="val 3926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-(id)</a:t>
            </a:r>
            <a:r>
              <a:rPr b="0" lang="en-US" sz="3000" spc="-1" strike="noStrike">
                <a:solidFill>
                  <a:srgbClr val="0000ff"/>
                </a:solidFill>
                <a:latin typeface="Chalkboard"/>
                <a:ea typeface="Chalkboard"/>
              </a:rPr>
              <a:t>initWithXXX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:(</a:t>
            </a: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数据类型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)</a:t>
            </a: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参数名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1 </a:t>
            </a:r>
            <a:r>
              <a:rPr b="0" lang="en-US" sz="3000" spc="-1" strike="noStrike">
                <a:solidFill>
                  <a:srgbClr val="0000ff"/>
                </a:solidFill>
                <a:latin typeface="Chalkboard"/>
                <a:ea typeface="Chalkboard"/>
              </a:rPr>
              <a:t>XXX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:(</a:t>
            </a: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数据类型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)</a:t>
            </a:r>
            <a:r>
              <a:rPr b="0" lang="zh-CN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参数名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Heiti SC Light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Chalkboard"/>
                <a:ea typeface="Chalkboard"/>
              </a:rPr>
              <a:t>. . .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self = [super init]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if(self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Lucida Grande"/>
              </a:rPr>
              <a:t> </a:t>
            </a:r>
            <a:r>
              <a:rPr b="0" lang="en-US" sz="3000" spc="-1" strike="noStrike">
                <a:solidFill>
                  <a:srgbClr val="ff00ff"/>
                </a:solidFill>
                <a:latin typeface="Chalkboard"/>
                <a:ea typeface="Heiti SC Light"/>
              </a:rPr>
              <a:t>[self setXXX:</a:t>
            </a:r>
            <a:r>
              <a:rPr b="0" lang="zh-CN" sz="3000" spc="-1" strike="noStrike">
                <a:solidFill>
                  <a:srgbClr val="ff00ff"/>
                </a:solidFill>
                <a:latin typeface="Chalkboard"/>
                <a:ea typeface="Heiti SC Light"/>
              </a:rPr>
              <a:t>参数名</a:t>
            </a:r>
            <a:r>
              <a:rPr b="0" lang="en-US" sz="3000" spc="-1" strike="noStrike">
                <a:solidFill>
                  <a:srgbClr val="ff00ff"/>
                </a:solidFill>
                <a:latin typeface="Chalkboard"/>
                <a:ea typeface="Heiti SC Light"/>
              </a:rPr>
              <a:t>1 XXX:</a:t>
            </a:r>
            <a:r>
              <a:rPr b="0" lang="zh-CN" sz="3000" spc="-1" strike="noStrike">
                <a:solidFill>
                  <a:srgbClr val="ff00ff"/>
                </a:solidFill>
                <a:latin typeface="Chalkboard"/>
                <a:ea typeface="Heiti SC Light"/>
              </a:rPr>
              <a:t>参数</a:t>
            </a:r>
            <a:r>
              <a:rPr b="0" lang="en-US" sz="3000" spc="-1" strike="noStrike">
                <a:solidFill>
                  <a:srgbClr val="ff00ff"/>
                </a:solidFill>
                <a:latin typeface="Chalkboard"/>
                <a:ea typeface="Heiti SC Light"/>
              </a:rPr>
              <a:t>. . .]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return self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halkboard"/>
                <a:ea typeface="Chalkboard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"/>
          <p:cNvSpPr/>
          <p:nvPr/>
        </p:nvSpPr>
        <p:spPr>
          <a:xfrm>
            <a:off x="2346480" y="1653480"/>
            <a:ext cx="4755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自定义类的初始化方法格式：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作用域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"/>
          <p:cNvSpPr/>
          <p:nvPr/>
        </p:nvSpPr>
        <p:spPr>
          <a:xfrm>
            <a:off x="1384200" y="2844720"/>
            <a:ext cx="102236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的默认作用域：只限于为该类定义的实例方法，因此任何实例方法都能直接通过变量名来访问该类的实例变量，而无需特别操作。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控制作用域的三个指令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"/>
          <p:cNvSpPr/>
          <p:nvPr/>
        </p:nvSpPr>
        <p:spPr>
          <a:xfrm>
            <a:off x="1104840" y="2330280"/>
            <a:ext cx="10794960" cy="61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@protected</a:t>
            </a:r>
            <a:r>
              <a:rPr b="0" lang="zh-CN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（保护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这个指令后面的实例变量可被该类及任何子类中定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的方法直接访问。这是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Heiti SC Medium"/>
              </a:rPr>
              <a:t>默认的情况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@private</a:t>
            </a:r>
            <a:r>
              <a:rPr b="0" lang="zh-CN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（私有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这个指令后面的实例变量可被定义在该类的实例方法直接访问，但是不能被子类中定义的实例方法直接访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@public</a:t>
            </a:r>
            <a:r>
              <a:rPr b="0" lang="zh-CN" sz="3600" spc="-1" strike="noStrike">
                <a:solidFill>
                  <a:srgbClr val="ffff00"/>
                </a:solidFill>
                <a:latin typeface="Courier New"/>
                <a:ea typeface="Heiti SC Light"/>
              </a:rPr>
              <a:t>（公共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这个指令后面的实例变量可被该类中定义的实例方法直接访问，也可被其他类中定义的方法直接访问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308240" y="838080"/>
            <a:ext cx="6451560" cy="428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@interface Fraction:NSObjec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@public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a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@protect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b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@privat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c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d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@en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1206360" y="5721480"/>
            <a:ext cx="116460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【注意】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这些指令到另一个指令开始结束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Monaco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指令使得可以通过运算符</a:t>
            </a:r>
            <a:r>
              <a:rPr b="0" lang="en-US" sz="36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-&gt;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访问实例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Monaco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将实例变量声明为公共的不是良好的编程习惯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typede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762280"/>
            <a:ext cx="11468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提供了一种能力：程序员可以为数据类型另外指派一个名称，这是通过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定义的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语句：</a:t>
            </a:r>
            <a:r>
              <a:rPr b="0" lang="en-US" sz="3600" spc="-1" strike="noStrike">
                <a:solidFill>
                  <a:srgbClr val="ffff00"/>
                </a:solidFill>
                <a:latin typeface="Chalkboard"/>
                <a:ea typeface="Chalkboard"/>
              </a:rPr>
              <a:t>typedef int myIn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定义一个新类型名的步骤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，像声明所需类型的变量那样编写一条语句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，在通常应该出现声明的变量名的地方，将其替换为新的类型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，在语句前面加上关键字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Lucida Grande"/>
              </a:rPr>
              <a:t>typedef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